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CAB-A4CA-4F79-BDC9-9F9D5522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35A-15E6-41E6-A675-5237E447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685-5EDF-4567-92B0-5D8E1D0B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4AD-7FEA-431A-8DEC-A1B5D715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395-DBB3-470E-A70A-994D13C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6CC-A847-429F-81D7-2D5FFC4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208-F498-406D-827D-7BAFA73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D09-7B90-42C3-A029-7EA8E3D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2DA-B8D8-4E52-9BED-E1463E03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15B-DC5C-4B14-A037-76260D4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EF3-4522-4886-89D9-733898C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2E3-C9B1-4D88-969E-8A373D54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065-055D-4661-86AC-EC3272E7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8466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98964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168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 =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701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235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39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930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452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3168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701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4235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6 + 90 + 70 = 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35440" y="495288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the areas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28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038320" cy="15908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087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ethod 1: Use a 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raw a net to help you see each face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7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the formula A = lw to find the area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476520"/>
            <a:ext cx="97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8257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266920" cy="110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34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81480" y="2286000"/>
            <a:ext cx="2895840" cy="2666880"/>
            <a:chOff x="5181480" y="2286000"/>
            <a:chExt cx="2895840" cy="2666880"/>
          </a:xfrm>
        </p:grpSpPr>
        <p:sp>
          <p:nvSpPr>
            <p:cNvPr id="156" name=""/>
            <p:cNvSpPr/>
            <p:nvPr/>
          </p:nvSpPr>
          <p:spPr>
            <a:xfrm>
              <a:off x="5181480" y="2743200"/>
              <a:ext cx="99072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400" y="2743200"/>
              <a:ext cx="99072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72200" y="2743200"/>
              <a:ext cx="45720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2743200"/>
              <a:ext cx="45720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2286000"/>
              <a:ext cx="99072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4495680"/>
              <a:ext cx="99072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1911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65840" y="2698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9200" y="228600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44956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72240" y="271476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76800" y="2679840"/>
            <a:ext cx="7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30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00640" y="4054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64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62760" y="4540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1065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90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038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572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454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 + 66 + 33 + 66 + 33 + 18 = 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58960" y="4930920"/>
            <a:ext cx="5465520" cy="535680"/>
            <a:chOff x="858960" y="4930920"/>
            <a:chExt cx="5465520" cy="535680"/>
          </a:xfrm>
        </p:grpSpPr>
        <p:sp>
          <p:nvSpPr>
            <p:cNvPr id="190" name=""/>
            <p:cNvSpPr/>
            <p:nvPr/>
          </p:nvSpPr>
          <p:spPr>
            <a:xfrm>
              <a:off x="858960" y="5006880"/>
              <a:ext cx="54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Add the areas of each f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0400" y="4930920"/>
              <a:ext cx="28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38080" y="59324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234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34120" y="2209680"/>
            <a:ext cx="2895120" cy="2666880"/>
            <a:chOff x="5334120" y="2209680"/>
            <a:chExt cx="2895120" cy="2666880"/>
          </a:xfrm>
        </p:grpSpPr>
        <p:sp>
          <p:nvSpPr>
            <p:cNvPr id="194" name=""/>
            <p:cNvSpPr/>
            <p:nvPr/>
          </p:nvSpPr>
          <p:spPr>
            <a:xfrm>
              <a:off x="5334120" y="2666880"/>
              <a:ext cx="99036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1680" y="2666880"/>
              <a:ext cx="99036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2666880"/>
              <a:ext cx="45684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2400" y="2666880"/>
              <a:ext cx="45684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2209680"/>
              <a:ext cx="99036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1680" y="4419360"/>
              <a:ext cx="99036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343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2666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18480" y="2622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91480" y="22096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44197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24880" y="2638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9440" y="2603520"/>
            <a:ext cx="76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22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53280" y="3978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6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15040" y="446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79440" y="1163520"/>
            <a:ext cx="8307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each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ethod 2: Use a three-dimensional dra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5121360"/>
            <a:ext cx="8000640" cy="901800"/>
            <a:chOff x="533520" y="5121360"/>
            <a:chExt cx="8000640" cy="901800"/>
          </a:xfrm>
        </p:grpSpPr>
        <p:sp>
          <p:nvSpPr>
            <p:cNvPr id="221" name=""/>
            <p:cNvSpPr/>
            <p:nvPr/>
          </p:nvSpPr>
          <p:spPr>
            <a:xfrm>
              <a:off x="533520" y="5197680"/>
              <a:ext cx="80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Find the area of the front, top, and side, and multiply each by 2 to include the opposite fa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2120" y="5121360"/>
              <a:ext cx="41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505320" y="3016080"/>
            <a:ext cx="1676160" cy="140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52680" y="4311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4235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70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02040" y="3016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3321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79440" y="114192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457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3733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789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3505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 + 120 + 96 = 3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41008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the areas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943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37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1676520" cy="1400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0040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49760" y="1752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2165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16765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area of a pyramid equals the sum of the area of the base and the areas of the triangular faces. To find the surface area of a pyramid, think of its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79440" y="908640"/>
            <a:ext cx="8307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Finding the Surface Area of a Pyra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yram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22417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square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triangular 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4562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9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051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9 + 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010280" y="3886200"/>
            <a:ext cx="1905120" cy="536040"/>
            <a:chOff x="7010280" y="3886200"/>
            <a:chExt cx="1905120" cy="536040"/>
          </a:xfrm>
        </p:grpSpPr>
        <p:sp>
          <p:nvSpPr>
            <p:cNvPr id="274" name=""/>
            <p:cNvSpPr/>
            <p:nvPr/>
          </p:nvSpPr>
          <p:spPr>
            <a:xfrm>
              <a:off x="7010280" y="3962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ubstitu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36480" y="3886200"/>
              <a:ext cx="9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95480" y="2971800"/>
            <a:ext cx="3657600" cy="840600"/>
            <a:chOff x="2895480" y="2971800"/>
            <a:chExt cx="3657600" cy="840600"/>
          </a:xfrm>
        </p:grpSpPr>
        <p:grpSp>
          <p:nvGrpSpPr>
            <p:cNvPr id="277" name=""/>
            <p:cNvGrpSpPr/>
            <p:nvPr/>
          </p:nvGrpSpPr>
          <p:grpSpPr>
            <a:xfrm>
              <a:off x="2895480" y="3081240"/>
              <a:ext cx="3657600" cy="524880"/>
              <a:chOff x="2895480" y="3081240"/>
              <a:chExt cx="3657600" cy="524880"/>
            </a:xfrm>
          </p:grpSpPr>
          <p:sp>
            <p:nvSpPr>
              <p:cNvPr id="278" name=""/>
              <p:cNvSpPr/>
              <p:nvPr/>
            </p:nvSpPr>
            <p:spPr>
              <a:xfrm>
                <a:off x="2895480" y="31464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b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44720" y="3081240"/>
                <a:ext cx="381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018040" y="2971800"/>
              <a:ext cx="685800" cy="840600"/>
              <a:chOff x="5018040" y="2971800"/>
              <a:chExt cx="685800" cy="840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0943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94360" y="3352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18040" y="3027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895480" y="3767040"/>
            <a:ext cx="4190760" cy="840960"/>
            <a:chOff x="2895480" y="3767040"/>
            <a:chExt cx="4190760" cy="840960"/>
          </a:xfrm>
        </p:grpSpPr>
        <p:grpSp>
          <p:nvGrpSpPr>
            <p:cNvPr id="285" name=""/>
            <p:cNvGrpSpPr/>
            <p:nvPr/>
          </p:nvGrpSpPr>
          <p:grpSpPr>
            <a:xfrm>
              <a:off x="2895480" y="3865680"/>
              <a:ext cx="4190760" cy="558000"/>
              <a:chOff x="2895480" y="3865680"/>
              <a:chExt cx="4190760" cy="558000"/>
            </a:xfrm>
          </p:grpSpPr>
          <p:sp>
            <p:nvSpPr>
              <p:cNvPr id="286" name=""/>
              <p:cNvSpPr/>
              <p:nvPr/>
            </p:nvSpPr>
            <p:spPr>
              <a:xfrm>
                <a:off x="2895480" y="3963960"/>
                <a:ext cx="419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7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Verdana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06720" y="3865680"/>
                <a:ext cx="436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105160" y="3767040"/>
              <a:ext cx="685800" cy="840960"/>
              <a:chOff x="5105160" y="3767040"/>
              <a:chExt cx="685800" cy="840960"/>
            </a:xfrm>
          </p:grpSpPr>
          <p:sp>
            <p:nvSpPr>
              <p:cNvPr id="289" name=""/>
              <p:cNvSpPr/>
              <p:nvPr/>
            </p:nvSpPr>
            <p:spPr>
              <a:xfrm>
                <a:off x="5181480" y="3767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81480" y="414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05160" y="38228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2895480" y="5508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5943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161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552320" cy="1390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19238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79440" y="1091520"/>
            <a:ext cx="8307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yram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22417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square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triangular 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4562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5051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010280" y="3886200"/>
            <a:ext cx="1905120" cy="536040"/>
            <a:chOff x="7010280" y="3886200"/>
            <a:chExt cx="1905120" cy="536040"/>
          </a:xfrm>
        </p:grpSpPr>
        <p:sp>
          <p:nvSpPr>
            <p:cNvPr id="307" name=""/>
            <p:cNvSpPr/>
            <p:nvPr/>
          </p:nvSpPr>
          <p:spPr>
            <a:xfrm>
              <a:off x="7010280" y="3962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ubstitu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36480" y="3886200"/>
              <a:ext cx="9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895480" y="2971800"/>
            <a:ext cx="3657600" cy="840600"/>
            <a:chOff x="2895480" y="2971800"/>
            <a:chExt cx="3657600" cy="840600"/>
          </a:xfrm>
        </p:grpSpPr>
        <p:grpSp>
          <p:nvGrpSpPr>
            <p:cNvPr id="310" name=""/>
            <p:cNvGrpSpPr/>
            <p:nvPr/>
          </p:nvGrpSpPr>
          <p:grpSpPr>
            <a:xfrm>
              <a:off x="2895480" y="3081240"/>
              <a:ext cx="3657600" cy="524880"/>
              <a:chOff x="2895480" y="3081240"/>
              <a:chExt cx="3657600" cy="524880"/>
            </a:xfrm>
          </p:grpSpPr>
          <p:sp>
            <p:nvSpPr>
              <p:cNvPr id="311" name=""/>
              <p:cNvSpPr/>
              <p:nvPr/>
            </p:nvSpPr>
            <p:spPr>
              <a:xfrm>
                <a:off x="2895480" y="31464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b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44720" y="3081240"/>
                <a:ext cx="381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018040" y="2971800"/>
              <a:ext cx="685800" cy="840600"/>
              <a:chOff x="5018040" y="2971800"/>
              <a:chExt cx="685800" cy="840600"/>
            </a:xfrm>
          </p:grpSpPr>
          <p:sp>
            <p:nvSpPr>
              <p:cNvPr id="314" name=""/>
              <p:cNvSpPr/>
              <p:nvPr/>
            </p:nvSpPr>
            <p:spPr>
              <a:xfrm>
                <a:off x="50943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94360" y="3352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18040" y="3027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2895480" y="3767040"/>
            <a:ext cx="4571640" cy="817560"/>
            <a:chOff x="2895480" y="3767040"/>
            <a:chExt cx="4571640" cy="817560"/>
          </a:xfrm>
        </p:grpSpPr>
        <p:grpSp>
          <p:nvGrpSpPr>
            <p:cNvPr id="318" name=""/>
            <p:cNvGrpSpPr/>
            <p:nvPr/>
          </p:nvGrpSpPr>
          <p:grpSpPr>
            <a:xfrm>
              <a:off x="2895480" y="3859200"/>
              <a:ext cx="4571640" cy="551880"/>
              <a:chOff x="2895480" y="3859200"/>
              <a:chExt cx="4571640" cy="551880"/>
            </a:xfrm>
          </p:grpSpPr>
          <p:sp>
            <p:nvSpPr>
              <p:cNvPr id="319" name=""/>
              <p:cNvSpPr/>
              <p:nvPr/>
            </p:nvSpPr>
            <p:spPr>
              <a:xfrm>
                <a:off x="2895480" y="3951360"/>
                <a:ext cx="45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Verdana"/>
                  </a:rPr>
                  <a:t>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98520" y="3859200"/>
                <a:ext cx="4759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105520" y="3767040"/>
              <a:ext cx="747360" cy="817560"/>
              <a:chOff x="5105520" y="3767040"/>
              <a:chExt cx="747360" cy="817560"/>
            </a:xfrm>
          </p:grpSpPr>
          <p:sp>
            <p:nvSpPr>
              <p:cNvPr id="322" name=""/>
              <p:cNvSpPr/>
              <p:nvPr/>
            </p:nvSpPr>
            <p:spPr>
              <a:xfrm>
                <a:off x="5188680" y="376704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88680" y="412488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05520" y="3819240"/>
                <a:ext cx="74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2895480" y="5508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5943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125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362320" cy="17337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4019400"/>
            <a:ext cx="2552760" cy="2057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52280" y="290988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3595680"/>
            <a:ext cx="95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47840" y="2819520"/>
            <a:ext cx="1181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43280" y="4267080"/>
            <a:ext cx="1104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0680" y="4770360"/>
            <a:ext cx="663840" cy="398880"/>
          </a:xfrm>
          <a:prstGeom prst="rect">
            <a:avLst/>
          </a:prstGeom>
          <a:solidFill>
            <a:srgbClr val="c3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5564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area of a cylinder equals the sum of the area of its bases and the area of its curved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31960" y="3430440"/>
            <a:ext cx="7854840" cy="1830960"/>
            <a:chOff x="831960" y="3430440"/>
            <a:chExt cx="7854840" cy="1830960"/>
          </a:xfrm>
        </p:grpSpPr>
        <p:sp>
          <p:nvSpPr>
            <p:cNvPr id="342" name=""/>
            <p:cNvSpPr/>
            <p:nvPr/>
          </p:nvSpPr>
          <p:spPr>
            <a:xfrm>
              <a:off x="838080" y="3887640"/>
              <a:ext cx="7848720" cy="13737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o find the area of the curved surface of a cylinder, multiply its height by the circumference of the ba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1960" y="3430440"/>
              <a:ext cx="2743200" cy="520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79440" y="1001880"/>
            <a:ext cx="84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Finding the Surface Area of a 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90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lateral surface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each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5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388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409760" cy="1562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073240" cy="2124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610080" y="377676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3880"/>
            <a:ext cx="815328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figure d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wo parallel congruent faces, with the other faces being 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polyhedron that has a vertex and a face at opposite ends, with the other faces being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1160" y="30474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93720" y="47714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79440" y="118476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73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4083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.12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about 276.32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473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3.14 for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616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5.84 + 100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51609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76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2951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79440" y="118476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490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lateral surface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each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5388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409760" cy="15620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073240" cy="2124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906640" y="2908440"/>
            <a:ext cx="128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37180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79440" y="118476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3473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6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4083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7.68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13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about 565.2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473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3.14 for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4616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39.12 + 226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51609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6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2951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6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114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935360"/>
            <a:ext cx="792468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of each figure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ctangular prism with base length 6 ft, width 5 ft, and height 7 f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ylinder with radius 3 ft and height 7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urface area of the figure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962520" y="320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14 f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385668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88.4 f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48549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8 f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3200400" y="4952880"/>
            <a:ext cx="196200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00200"/>
            <a:ext cx="792504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figure has the longer side and by how much, a square with an area of 81 f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or a square with perimeter of 84 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quare with a perimeter of 84 ft; by 12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surface areas of prisms, pyramids, and cylinders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828800"/>
            <a:ext cx="7162920" cy="1523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75248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urface ar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solid figure is the sum of the areas of its surfaces. To help you see all the surfaces of a solid figure, you can use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pattern made when the surface of a solid figure is layed out flat showing each face of the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9043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Finding the Surface Area of a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ethod 1: Use a 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raw a net to help you see each face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7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the formula A = lw to find the area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87676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05520" y="2324160"/>
            <a:ext cx="32860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13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0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038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410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 + 60 + 24 + 60 + 24 + 10 = 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58960" y="4930920"/>
            <a:ext cx="5465520" cy="535680"/>
            <a:chOff x="858960" y="4930920"/>
            <a:chExt cx="5465520" cy="535680"/>
          </a:xfrm>
        </p:grpSpPr>
        <p:sp>
          <p:nvSpPr>
            <p:cNvPr id="109" name=""/>
            <p:cNvSpPr/>
            <p:nvPr/>
          </p:nvSpPr>
          <p:spPr>
            <a:xfrm>
              <a:off x="858960" y="5006880"/>
              <a:ext cx="54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Add the areas of each f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10400" y="4930920"/>
              <a:ext cx="28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38080" y="59324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188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860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9440" y="980640"/>
            <a:ext cx="8307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Finding the Surface Area of a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each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ethod 2: Use a three-dimensional dra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ind the area of the front, top, and side, and multiply each by 2 to include the opposite 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908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1:02:53Z</dcterms:created>
  <dc:creator>Laurel Nissen</dc:creator>
  <dc:description/>
  <dc:language>en-US</dc:language>
  <cp:lastModifiedBy>HRW</cp:lastModifiedBy>
  <dcterms:modified xsi:type="dcterms:W3CDTF">2003-04-28T14:25:02Z</dcterms:modified>
  <cp:revision>19</cp:revision>
  <dc:subject/>
  <dc:title>Slide 1</dc:title>
</cp:coreProperties>
</file>